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3267-45D0-4188-89A4-DE2AE9696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utcaster.com/photo/801160119-Plant-growth-Stages-of-the-plant-developmen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umblr.com/tagged/auxins?language=fr_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5e.plantphys.net/article.php?ch=0&amp;id=3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iscovermagazine.com/2003/jan/botany#.Ua6dzBzsSj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 plant on right genetically engineered to produce more cytokin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sci.ohio-state.edu/~plantbio/osu_pcmb/pcmb_lab_resources/pcmb101_activities/hormones/plnt_grth_hrmns_fruit_rip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igitalwebb.com/DownloadPreA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how.com/list_7018530_factors-germination-mung-beans-grow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vironmentplants.blogspot.c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163.16.28.248/bio/activelearner/36/ch36c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reparetobeamazed.blogspot.ca/2011_03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http://en.wikipedia.org/wiki/Thigmotrop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2DD7-3A01-47D7-9440-28CC923A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63F5-B94C-41A2-9EB3-33759712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1946-97B2-433B-8DFA-852536DE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BF4-BDA8-40A9-BA1F-5ED2C04B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F58D-10A8-4488-B756-1BD10AAF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A6F7-3C2A-4E99-9269-1DA5FDE4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7C6-6F0E-400D-B5E6-5223775E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746-95F4-4592-8147-EE4ACD4B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168-759D-4549-94B2-ABF6FE9E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E730-2BDD-4A38-ACAE-0C4DD0EE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97B9-50CE-4DA1-A2E0-2BFFBD84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6BC1-62E4-49B3-9BB7-E9B049E5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A022-C447-4614-A73A-DE4F4B2E7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x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cell elon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on “dark side” causing phototrop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86200" y="1878120"/>
            <a:ext cx="48769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bberell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s cell division &amp; elon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s role in flowering &amp; fruit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bberellin spray induces fruit production &amp; elongates fruit stems in gr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749160"/>
            <a:ext cx="777240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kin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growing tissues such as meristems, young leaves, growing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cell 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ayed on mushrooms &amp; lettuce to prevent spo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127320" y="609480"/>
            <a:ext cx="2887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yl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that is produced at various stages of plant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stress hormo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timulates fruit ripening, and many other developmental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ylene levels controlled so that fruit is ripe when sold at the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844560"/>
            <a:ext cx="77724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cisic Acid (AB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its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s dormancy in seeds and leaf b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s rise in response to temperature &amp; light changes (e.g., seasonal ch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used on plants that are being shi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i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19440" y="1981080"/>
            <a:ext cx="370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environmental factors affect plant grow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Facto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factor that you studied in your la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the growth of a plant in response to a stim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93960" y="3124080"/>
            <a:ext cx="528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87640" y="1981080"/>
            <a:ext cx="4967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i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06680" y="1981080"/>
            <a:ext cx="592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gmo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49440" y="1981080"/>
            <a:ext cx="424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Growth Reg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5T01:39:58Z</dcterms:created>
  <dc:creator>rubina khan</dc:creator>
  <dc:description/>
  <dc:language>en-US</dc:language>
  <cp:lastModifiedBy>rubina khan</cp:lastModifiedBy>
  <dcterms:modified xsi:type="dcterms:W3CDTF">2015-03-05T20:52:39Z</dcterms:modified>
  <cp:revision>41</cp:revision>
  <dc:subject/>
  <dc:title>Plant Growth</dc:title>
</cp:coreProperties>
</file>